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9594-1770-434C-B9D2-1870C503A9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603C-068E-4FC6-89B3-7558AB7FD2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519-7BE7-4D57-846B-29071CA582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DA9-B42F-4CA7-839A-2AE21F9196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5D9-1D8F-4E5D-84AF-88CFDFF7F87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EA8-CBC1-4060-BFD3-B9C5141EC1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1FA-923B-41B2-BA64-E371F5470B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4D4E-BAF7-410F-9386-1B0BA234D6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A36D-8415-4A73-BB2F-F492222005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60C-4C97-4A02-A974-8D6E829A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287-FFE0-429F-BEE0-4EF5D75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062-3794-4F18-86EB-EC67905E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155-6F2D-40B1-8F13-B473DEE1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9A61-A45F-42A6-A8C6-0AB2A3C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36C-5940-4E64-BCD7-5D792533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9184-604C-4110-8D46-D9A26EC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A50-732E-4EB6-88C6-5A4E595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6A02-6360-4BD0-BE45-A25561C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F37B-E4BD-4138-AA48-E9BD087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5AB0-269F-4ECB-B9A0-041FA5E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1F2-9083-44A7-A142-AF997FDB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8E7-5D06-4F1D-9C81-B7B0219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4D6-7C1A-4EAF-B501-660025B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D68-B51E-455E-8FFF-E68C229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1E68-11DF-4EFA-AC45-8728401C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7B9C-A62F-4B7E-8CDF-8052FF18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F5EB-16E3-404F-B0B5-1EF39E7E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624D-1F64-4F56-A447-3DD654D8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D606-A501-4A2D-A26E-C6C088A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4344-1CCA-4147-90FF-CBBB8403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C0BC-57F7-415F-A0A3-3FF1DB6D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5C6-20DE-4B13-AB3C-7BF9E4C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CB18-E8A1-4791-B6CD-02A00F8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DEF8-3720-4267-A1B9-DD2834E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2369-9B08-4FFB-AE05-F15483F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4259-EA96-49AD-BC1E-255E65C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7418-9C73-4800-8A70-11179EE5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C3A8-E1F9-401B-8DA7-2C6E35E0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239B-5F38-4520-B9D3-C9E6C016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6F52-096C-47F1-ADE8-4BF2E81C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8F64-B67E-4166-9F65-13613D8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4BBE-981F-463F-85BE-D16B22A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8DB-DD56-4459-8C6A-680521A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A52F-3AB0-440F-9E6D-ADF16CE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DE1C-2C74-46AE-A749-D32330BC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E25A-F9DE-4912-BDD8-CBA5E02C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2466-B800-4B8F-8B60-CA0FD3F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4373-1CF1-4814-8E10-50AA382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3ADA-C7CC-40AC-9E45-1A5C835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4727-E263-42DF-A9CA-335A198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0419-F45E-4494-948D-0E6316EB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0DF7-E812-452F-BDE8-DA6E9655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61D9-C279-43AF-82DA-9E125A1C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1F2-D6DE-43CD-BDE9-1156E44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63F2-417A-4551-918F-F467A1F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18AB-016B-4667-9B93-ABB7273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81FA-F9BC-4B43-9BFE-07688E8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0503-9F24-40A1-BC19-333163D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D2F8-9380-4451-9CAA-0057DA35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0CE0-2EE3-476D-A243-18478A5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3895-E67A-4BEC-B1BD-16D6DD6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792F9-436A-497A-9824-E367137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233F-1485-4ADC-B0B5-B3C2D34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2460-6E5C-4433-B89C-7585FAE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8F3-6D6E-4EC3-B9F0-1C1474E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3777-A7CF-4903-AAC4-87E98D53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85E3-5554-4C39-AA78-904C52C1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197D-F418-4E16-8920-82E0E66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6613-FE98-42FE-B481-E6F0C24A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2B42-8245-4BAB-B245-DF19DE8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0F11-D90D-413F-A3B1-EA3BA1D4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665F-637E-4B1E-BBA4-46023F01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ED47-0FD9-437A-A7A0-29C1B6C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B6C0-A88D-41CE-BC8C-80748FC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0996E-C7D2-4BC6-A683-D525B93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B7F-7D03-445B-BFB1-71F8639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CD56-2B41-4A5B-87BA-59E248FD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1560-5A92-4D30-84B2-4C6930E9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A4CF2-EC6C-4D11-B390-F42D27D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C5C-8473-49AD-872D-C12B0EF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84B-A0E0-4BFD-8B87-C99EC1E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77A-B188-4667-A8CC-FFBF77ED7CE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33F-3239-41D6-B0D3-D7CCF197FE0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4EB-AF2C-467E-898E-50ED8C8BB80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2EB-9A03-451F-91A1-1520A238E135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500-6125-4E70-A3BC-228E2625CCA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3D52-2E53-4371-A241-9A554C7D66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6062-1F81-468A-AD56-ED95EC0B3FF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41F-2324-44C3-93DF-A3C1F43B47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45A-20EC-4790-99AB-EF3FC573B58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277-8083-465A-AB9B-AD38281CAE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ECB-49F4-48B2-8DD3-792D019819F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344-8F69-4E6E-8C9E-A4CCA98F97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152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119160" y="692280"/>
            <a:ext cx="1173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de dezembro/2017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1" descr=""/>
          <p:cNvPicPr/>
          <p:nvPr/>
        </p:nvPicPr>
        <p:blipFill>
          <a:blip r:embed="rId1"/>
          <a:stretch/>
        </p:blipFill>
        <p:spPr>
          <a:xfrm>
            <a:off x="0" y="1276200"/>
            <a:ext cx="12192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99880" y="692280"/>
            <a:ext cx="108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m 1" descr=""/>
          <p:cNvPicPr/>
          <p:nvPr/>
        </p:nvPicPr>
        <p:blipFill>
          <a:blip r:embed="rId1"/>
          <a:stretch/>
        </p:blipFill>
        <p:spPr>
          <a:xfrm>
            <a:off x="0" y="1297080"/>
            <a:ext cx="121921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34800" y="638172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1522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7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63520" y="6399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63520" y="692280"/>
            <a:ext cx="1144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1144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674640"/>
            <a:ext cx="12192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6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7 e Dezembro/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520" y="963720"/>
            <a:ext cx="12144600" cy="54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34800" y="692280"/>
            <a:ext cx="1080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10 a 2017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118260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1.365,26, na média de janeiro a dezembro de 2017, o que representou um crescimento de 11,6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3287880" y="5229000"/>
            <a:ext cx="327492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 flipH="1">
            <a:off x="7608960" y="2322360"/>
            <a:ext cx="3527280" cy="277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119160" y="1658880"/>
            <a:ext cx="1180944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52360" y="765000"/>
            <a:ext cx="1087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6, Novembro/2017, Dezembro/2017 e Acumulado no an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52360" y="646740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19844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" descr=""/>
          <p:cNvPicPr/>
          <p:nvPr/>
        </p:nvPicPr>
        <p:blipFill>
          <a:blip r:embed="rId1"/>
          <a:stretch/>
        </p:blipFill>
        <p:spPr>
          <a:xfrm>
            <a:off x="325440" y="1270080"/>
            <a:ext cx="11458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334800" y="69228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34800" y="641520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7 estimado de acordo com a Grade de Parâmetros da SPE/MF de 12/2017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115221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04920" y="692280"/>
            <a:ext cx="1104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 (2016 e 2017) – Em R$ milhões de dezembro/2017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11040" y="645804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4680" y="1268280"/>
            <a:ext cx="121921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6, Novembro e Dezembro de 2017 e Acumulado no ano (2016 e 2017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34800" y="6453360"/>
            <a:ext cx="30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4800" y="64119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2-05T12:49:17Z</dcterms:modified>
  <cp:revision>389</cp:revision>
  <dc:subject/>
  <dc:title>Demografia</dc:title>
</cp:coreProperties>
</file>